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E5AB-495B-4FD3-BFF0-FE9676257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30D8-4FB3-41B7-9FC5-EC937DAD433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DC37-B24E-46F8-B75A-1264777643E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8B58-522F-4261-BC37-E10366AD6CF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F679-5C78-43C9-9830-B66AC4F82BD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0A69-4A8A-4734-9F50-F06A87919A8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AA97-40CB-4E64-8767-444A31C1C8D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BA63-94BD-4C0B-90B4-6B231646B9E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3A40-83A4-408F-BC2F-F7509E9A343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C73B-1A4A-49EE-9A0E-3700E07F4BE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7BEC-A0C1-4CE3-AC69-0146B405311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C55-14A2-4931-A0F6-DB58DFE0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BC2-9711-4E22-91E7-FB1BD9CF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4FA-A332-4FE5-8AEF-5DE6F315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95F-898B-4E06-9592-960258DA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AF75-B1AB-4B58-9813-CB1FAA76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DB4E-4E51-46AF-ACF0-8C070ECB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C900-1812-4A1B-A30F-A8FF4167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59F5-94CF-4304-AB6C-7C8FCE10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3AB1-225D-419F-A10A-9F43525E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CBB1-3C52-4BEF-A831-E7C38F6F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F8A2-E222-4C55-92D9-8B30BD46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9A1-C66D-40FA-9A0B-DB477747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B122-2778-4844-831B-37743924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F761-810B-45A4-A4F1-90CA5AD2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D2A9-106F-43AF-8C39-013B8E27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CA7C-1F7E-441E-ABE0-910BB5B3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6823-9FFF-45DC-9BEF-7B6B6C6B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56F-8E7E-4F42-86C8-6FF1D61D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DFA8-10E3-42CE-A298-17608ACE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64D-2A94-4221-B59D-C3F5913F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06F-7955-45D3-9844-80779CFE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667-FC08-4015-9014-C2A956CA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680-D323-438C-8009-62A1C1B9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AA4-701D-4A86-982D-BCA4FED9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7C22-B054-477B-9AEF-E3CE95B0E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3720-B327-44F0-B012-F8F89246C8B8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inking Through Your Lesson Plan Assignmen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 guided reading less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Pre-reading 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(activate background knowledge, introduce challenging concepts, set purpose)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During reading 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(read at instructional level for a purpose with support; silent/oral reading combined with individualized support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Post-reading 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(respond to text and apply strategies more independently – with partners or alone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happens during guide reading?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EACHER’s rol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lect appropriate text; introduce (activate background knowledge &amp; introduce challenging vocab, ideas, themes); Set a purpose for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uring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istens in; observes strategy use;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eracts when having difficulty; teaches a min-lesson that addresses challenge; makes not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fter</a:t>
            </a: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vites personal response/discussion, assesses understanding of what they read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happens during guide reading?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TUDENT’s rol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960" y="1980720"/>
            <a:ext cx="8762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gage in conversation about text; ask questions; build expectations; notice info in tex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uring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 the whole text or a certain section for a certain purpose (silently or softly when younger); NOT ROUND ROBIN! monitor understanding &amp; apply strategies/request help when problem solv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fter</a:t>
            </a: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alk about text; revisit the text; engage in extending and responding to the text (reading and writing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itting Into A Balanced Literacy Program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2057040"/>
            <a:ext cx="3657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ading alou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hared read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Guided read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artner read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dep. read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495680" y="2057400"/>
            <a:ext cx="3810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hared wri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teractive wri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uided wri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artner wri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dep. wri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838080" y="5029200"/>
            <a:ext cx="7239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nk through themes; Involve famil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cument progress &amp; adapt suppor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Picture 1.png"/>
          <p:cNvPicPr/>
          <p:nvPr/>
        </p:nvPicPr>
        <p:blipFill>
          <a:blip r:embed="rId1"/>
          <a:stretch/>
        </p:blipFill>
        <p:spPr>
          <a:xfrm>
            <a:off x="1130400" y="196920"/>
            <a:ext cx="6883200" cy="6464160"/>
          </a:xfrm>
          <a:prstGeom prst="rect">
            <a:avLst/>
          </a:prstGeom>
          <a:ln w="28440">
            <a:solidFill>
              <a:srgbClr val="330000"/>
            </a:solidFill>
            <a:miter/>
          </a:ln>
        </p:spPr>
      </p:pic>
      <p:sp>
        <p:nvSpPr>
          <p:cNvPr id="136" name="TextBox 4"/>
          <p:cNvSpPr/>
          <p:nvPr/>
        </p:nvSpPr>
        <p:spPr>
          <a:xfrm>
            <a:off x="30240" y="838080"/>
            <a:ext cx="5889600" cy="1557000"/>
          </a:xfrm>
          <a:prstGeom prst="rect">
            <a:avLst/>
          </a:prstGeom>
          <a:solidFill>
            <a:srgbClr val="ffd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re-reading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velop background knowledg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ngage with book’s them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t purpose for reading (link to objective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2535480" y="2666880"/>
            <a:ext cx="3650760" cy="1557000"/>
          </a:xfrm>
          <a:prstGeom prst="rect">
            <a:avLst/>
          </a:prstGeom>
          <a:solidFill>
            <a:srgbClr val="ffd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uring reading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ing strateg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uided reading ques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content &amp; strategy use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355360" y="4419720"/>
            <a:ext cx="3870360" cy="1557000"/>
          </a:xfrm>
          <a:prstGeom prst="rect">
            <a:avLst/>
          </a:prstGeom>
          <a:solidFill>
            <a:srgbClr val="ffd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ost reading: (CENTER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sponse activitie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dep Strategy Applic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ssessmen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sson Plan Assignmen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t’s look at Sample Lesson Plan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sson Plan Assignment Handou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sson Plan Templat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Questions?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riting Learning Objectives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for your Lesson Plan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ree Criteria for a 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arning Objectiv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Usually just one sentence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Precise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cise verbs that reflect the thinking your students will be do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Set a contex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Given…; After…; Before…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Measurabl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ill you measure the “quality” (%age or criteria met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art with the top level and work backwards through average and below averag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riting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iven _____, students will _____ (verb and specifics) with (measurable) ____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% accuracy or to a certain level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Reading Proces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What strategy will students apply as they interact with this text?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Response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How will students respond to the deeper meaning within the text?  (theme, character development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ill use a three-column “prediction journal” to make and revise at least two meaningful predictions in chapters 43 &amp; 44 and state the clues they used to make those predictions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ill use a “Character Summary” worksheet to describe the personality and physical attributes of an assigned character as well as his/her relationship with Maniac Magee and his/her feelings toward racial segrega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1-11:15 Three book talk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1:15-11:20 Review where think-aloud modeling and metacognitive framework fits into the structure of good teach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1:20-11:40 Sum up big ideas about Guided Reading (and ask question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1:40-12:00 Link to lesson plan assign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2:00-12:10 Writing objectiv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2:10-12:15 Introduce Hollis Wood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Reading strategy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student wil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dict and confir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mmarize the key issu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nitor their understan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sk questions/reflec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how the relationship between concep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inferences and support with evidenc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raw conclus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connections betwee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isualiz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723600" y="6248520"/>
            <a:ext cx="75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Use your strategy textbook for examples and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Reading Response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 change/growth in charact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pond to/reflect on “big ideas” or optimistic messa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pond by connecting to…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oticing author’s craft (plot, language, etc.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tend with interdisciplinary connections (art, poetry, drama, Internet workshop, journaling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e p. 421 &amp; 432 for other response ideas!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195480" y="6248520"/>
            <a:ext cx="87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Use your literature genres textbook for examples and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ursday: Video Reflections Du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ursday: Hollis Woods Chapters 1-5 (Summary Notes due for Ch. 1-5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Hollis Woods’ search for a family is a perpetual journey, as she moves from one foster home to another until she meets the Regan family and two rather quirky elderly women who teach her a lot about love, friendship, &amp; belong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Linking to Our Last Clas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Metacognitive Teaching Framework</a:t>
            </a:r>
            <a:br>
              <a:rPr sz="3600"/>
            </a:b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Where is think-aloud in the process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386600" y="630864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Kelly &amp; Clausen-Grace, 2007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97" name="Group 6"/>
          <p:cNvGrpSpPr/>
          <p:nvPr/>
        </p:nvGrpSpPr>
        <p:grpSpPr>
          <a:xfrm>
            <a:off x="685800" y="1981080"/>
            <a:ext cx="8538120" cy="2057400"/>
            <a:chOff x="685800" y="1981080"/>
            <a:chExt cx="8538120" cy="2057400"/>
          </a:xfrm>
        </p:grpSpPr>
        <p:sp>
          <p:nvSpPr>
            <p:cNvPr id="98" name="Rectangle 4"/>
            <p:cNvSpPr/>
            <p:nvPr/>
          </p:nvSpPr>
          <p:spPr>
            <a:xfrm>
              <a:off x="685800" y="1981080"/>
              <a:ext cx="6400800" cy="2057400"/>
            </a:xfrm>
            <a:prstGeom prst="rect">
              <a:avLst/>
            </a:prstGeom>
            <a:solidFill>
              <a:srgbClr val="ffd1d1"/>
            </a:solidFill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6843960" y="2514240"/>
              <a:ext cx="2379960" cy="1099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00"/>
                  </a:solidFill>
                  <a:latin typeface="Arial"/>
                </a:rPr>
                <a:t>THINK-ALOUD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00"/>
                  </a:solidFill>
                  <a:latin typeface="Arial"/>
                </a:rPr>
                <a:t>SCRIPT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00"/>
                  </a:solidFill>
                  <a:latin typeface="Arial"/>
                </a:rPr>
                <a:t>part of…</a:t>
              </a:r>
              <a:endParaRPr b="0" lang="en-US" sz="18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1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 Alou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e, Explain, and Define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tice and apply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rify strategy purpos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2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fin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mall and whole group practic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3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et Strategy Use Ge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apply in literature circles and content area studies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4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elf-assessment/goal set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flect, monitor, and increase use of strateg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6643800" y="5029200"/>
            <a:ext cx="23446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ESSON PLA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02" name="Straight Arrow Connector 9"/>
          <p:cNvCxnSpPr/>
          <p:nvPr/>
        </p:nvCxnSpPr>
        <p:spPr>
          <a:xfrm flipH="1">
            <a:off x="8074800" y="3582720"/>
            <a:ext cx="3960" cy="144828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80880" y="594684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, think-aloud, and SCAFFOLD your strategy suppor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5" name="Picture 5" descr="Picture 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089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1066680" y="304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mote Independence by Gradually releasing Responsibility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32440" y="1455840"/>
            <a:ext cx="205812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WAT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376360" y="2590920"/>
            <a:ext cx="173664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HELP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648320" y="2971800"/>
            <a:ext cx="167616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HELP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6629400" y="4724280"/>
            <a:ext cx="167652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WAT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594684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, think-aloud, and SCAFFOLD your strategy suppor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3" name="Picture 5" descr="Picture 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089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1066680" y="304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mote Independence by Gradually releasing Responsibility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46480" y="1455840"/>
            <a:ext cx="2294640" cy="7030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I DO - YOU WATCH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INK-ALOU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1685520" y="2590920"/>
            <a:ext cx="2061360" cy="131292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I DO - YOU HELP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FIN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Small group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guided practice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3886200" y="3432240"/>
            <a:ext cx="3809880" cy="128304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I HELP - YOU DO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LET STRATEGY USE G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Apply with peer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(lit circles, center activities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5105520" y="4876920"/>
            <a:ext cx="3962160" cy="70380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 WATCH - YOU D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SELF-ASSESS &amp; SET GOAL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Is Guided Reading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mall group time when teachers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show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children how to read and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support them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s they read “independently”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heart of a balanced literacy progra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portunity for students to participate in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socially supported activity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ile constructing mean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portunity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practice/develop reading strategie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tackle books at their “instructional level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portunity for teachers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observe and support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dividual need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Where does Guided Reading fit into a balanced literacy program?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ading Aloud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experience literary work they cannot yet read (e.g., decode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hared Read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participate in reading and learn how print works (MODELING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GUIDED READING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Modeling &gt; Practic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Indep. Reading: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sponse Journals/Literature Circl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Revisit &amp; Think more deeply about text and co-construct new understan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does the classroom look like?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uided Reading Across the Grade Level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K-1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: Concepts of print; early phonics (letter-sound relationships); intro to genre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Grades 2-3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: Integrating reading comprehension and vocabulary strategies across multiple genre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Grade 4-6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: Deeper understanding of story elements (plot, characters, theme) &amp; informational texts (key ideas and supporting details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17:20Z</dcterms:created>
  <dc:creator>Julie Coiro</dc:creator>
  <dc:description/>
  <dc:language>en-US</dc:language>
  <cp:lastModifiedBy>Julie Coiro</cp:lastModifiedBy>
  <cp:lastPrinted>2009-11-10T04:01:33Z</cp:lastPrinted>
  <dcterms:modified xsi:type="dcterms:W3CDTF">2010-10-26T00:43:54Z</dcterms:modified>
  <cp:revision>220</cp:revision>
  <dc:subject/>
  <dc:title>Metacognitive Strategy Instruction to Enhance Reading Comprehension</dc:title>
</cp:coreProperties>
</file>